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ote.rubyforge.org/" TargetMode="External"/><Relationship Id="rId2" Type="http://schemas.openxmlformats.org/officeDocument/2006/relationships/hyperlink" Target="http://groups.google.com/group/openwferu-users" TargetMode="External"/><Relationship Id="rId3" Type="http://schemas.openxmlformats.org/officeDocument/2006/relationships/hyperlink" Target="http://www.opensourcery.co.za/2009/08/25/ruote-in-20-minutes-video/" TargetMode="External"/><Relationship Id="rId4" Type="http://schemas.openxmlformats.org/officeDocument/2006/relationships/hyperlink" Target="http://ruote.rubyforge.org/rdoc/" TargetMode="External"/><Relationship Id="rId5" Type="http://schemas.openxmlformats.org/officeDocument/2006/relationships/hyperlink" Target="http://jmettraux.wordpress.com/" TargetMode="External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ote.rubyforge.org/expressions.html%5D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5480" y="482760"/>
            <a:ext cx="1090944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uote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 Ruby workflow engin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8026200"/>
            <a:ext cx="104648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es Gamble aka “Bison Consulting”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10 August 2010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uote basics: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cess Defini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lvl="1" marL="1279800" indent="-548280">
              <a:lnSpc>
                <a:spcPct val="100000"/>
              </a:lnSpc>
              <a:buClr>
                <a:srgbClr val="ffffff"/>
              </a:buClr>
              <a:buSzPct val="166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documents that describe how a [business] process should orchestrate the flow of work among participants”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013"/>
              </a:spcBef>
              <a:buClr>
                <a:srgbClr val="ffffff"/>
              </a:buClr>
              <a:buSzPct val="166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Specified in Ruby DSL, XML, tree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013"/>
              </a:spcBef>
              <a:buClr>
                <a:srgbClr val="ffffff"/>
              </a:buClr>
              <a:buSzPct val="166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AST is created when def. is parsed at launch time (process instance) 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013"/>
              </a:spcBef>
              <a:buClr>
                <a:srgbClr val="ffffff"/>
              </a:buClr>
              <a:buSzPct val="166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Different “versions” of a process definition can be in play depending on editing and process instance launches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013"/>
              </a:spcBef>
              <a:buClr>
                <a:srgbClr val="ffffff"/>
              </a:buClr>
              <a:buSzPct val="166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Sub-processes can be specified and referred to in other processes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59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uote basics: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equential proces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635040" y="2927520"/>
            <a:ext cx="117219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uote.process_definition :name =&gt; 'my_def' d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quence d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participant 'alice'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participant 'bravo'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635040" y="5892840"/>
            <a:ext cx="1172196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One time through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Two participants: ‘alice’ and ‘bravo’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635040" y="7391520"/>
            <a:ext cx="1172196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ST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["define", {"name"=&gt;"my_def"}, [["sequence", {}, [["participant", {"ref"=&gt;"alice"}, []], ["participant", {"ref"=&gt;"bravo"}, []]]]]]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59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Gill Sans"/>
              </a:rPr>
              <a:t>ruote basics:</a:t>
            </a:r>
            <a:br>
              <a:rPr sz="6500"/>
            </a:br>
            <a:r>
              <a:rPr b="0" lang="en-US" sz="6500" spc="-1" strike="noStrike">
                <a:solidFill>
                  <a:srgbClr val="ffffff"/>
                </a:solidFill>
                <a:latin typeface="Gill Sans"/>
              </a:rPr>
              <a:t>Concurrent process w/looping</a:t>
            </a:r>
            <a:endParaRPr b="0" lang="en-US" sz="65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>
            <a:off x="635040" y="2698920"/>
            <a:ext cx="1172196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def = Ruote.process_definition :name =&gt; 'work' do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ursor do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ncurrence do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viewer1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viewer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dito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wind :if =&gt; '${f:not_ok}' # back to the reviewers if editor not happ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 # the docum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635040" y="6064200"/>
            <a:ext cx="1172196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Participants: ‘reviewerX’, ‘editor’, ‘publish’ 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Loop via “cursor” and rewind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Parallel tasks via “concurrence”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Conditional processing based on workitem contents (:if =&gt; ‘${f:not_ok}’)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uote basics: Participan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681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79840" indent="-56556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These are the actors in a workflow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In general, participants “ask” for work, and then “reply” after they have modified the workitem.  (But some don’t explicitly do this, like “block” participants).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They are of specialized types which gives them special behavior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Participants get their own thread to do processing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Examples: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lvl="2" marL="1760040" indent="-56592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Block: Provides a block that processes a received workitem and then immediately returns it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lvl="2" marL="1760040" indent="-56592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SMTP: Encapsulates mail server metadata to ease sending of email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lvl="2" marL="1760040" indent="-56592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Storage: To allow for participants to store their workitems using the same storage mechanism as the engin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Others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uote basics: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orkitem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2781000"/>
            <a:ext cx="1046484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se are the pieces of data that are actually passed around between the participa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lorified has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eld values within the workitems can be used t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en you launch a process instance, you pass it a workitem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xample block participan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-360" y="2768760"/>
            <a:ext cx="12992040" cy="67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alpha = engine.register_participant :alpha do |workitem|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workitem.fields['time'] = Time.n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workitem is automatically passed to the block from the process instan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uff happe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workitem is automatically returned to the process instance when the block end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uote basics: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ngin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3048120"/>
            <a:ext cx="10464840" cy="562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The engine is the Ruby runtime that keeps track of all of the workflows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155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Workers talk to engine to handle processing tasks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155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Multiple storage options: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5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HashStorage: in-memory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5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FsStorage: files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5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DmStorage: DataMapper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5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CouchStorage: CouchDB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5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RedisStorage: Redis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5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BsStorage: Beanstalk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uote basics: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unning a workflow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62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SETUP - do this once, usually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Initialize the engine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orage = Ruote::FsStorage.new('./tmp/ruote_work'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orker = Ruote::Worker.new(storag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@engine = Ruote::Engine.new(worker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Create a process definitio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@pdef = Ruote.process_definition :name =&gt; ‘xyz’..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Register participants (what kind of participant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@participants = @engine.register_participant '.+', Ruote::StorageParticipa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RUNTIME - do this on demand as need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Start a process instance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fid = @engine.launch(@pdef, {wi_key: wi_value}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Demo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3124080" y="3009960"/>
            <a:ext cx="674388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dvanced Topics: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ancy Participan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654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AMQP: places items in a queue (also a listener)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324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jig (rufus-jig HTTP client): POSTs received workitems as JSON to a server and stores answer back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324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Rufus::Decision::Participant: Use a CSV based decision table (local or Web-addressable) to drive workitem updates (allow business logic to be updated independent of code)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’ll we discus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 is ruot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 wha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uote basic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dvanced topic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xample Rufus::Decision tabl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777680" y="2781360"/>
            <a:ext cx="10464840" cy="668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Rufus::Decision::Participant, :table =&gt; %{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in:topic,in:region,out:team_member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ports,europe,Alice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ports,,Bob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nce,america,Charly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nce,europe,Donald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nce,,Ernes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politics,asia,Fujio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politics,america,Gilber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politics,,Henry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,,Zach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})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dvanced Topics: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Other Stuff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uote - kit: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RESTful wrapper around the ruote workflow engine, built as a modular sinatra appli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uote - fluo: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raphically represent a ruote process defini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0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source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1841040"/>
            <a:ext cx="10464840" cy="751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ruote.rubyforge.org</a:t>
            </a:r>
            <a:r>
              <a:rPr b="0" lang="en-US" sz="4100" spc="-1" strike="noStrike">
                <a:solidFill>
                  <a:srgbClr val="ffffff"/>
                </a:solidFill>
                <a:latin typeface="Gill Sans"/>
              </a:rPr>
              <a:t>/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375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groups.google.com/group/openwferu-users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375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www.opensourcery.co.za/2009/08/25/ruote-in-20-minutes-video/</a:t>
            </a:r>
            <a:r>
              <a:rPr b="0" lang="en-US" sz="4100" spc="-1" strike="noStrike">
                <a:solidFill>
                  <a:srgbClr val="ffffff"/>
                </a:solidFill>
                <a:latin typeface="Gill Sans"/>
              </a:rPr>
              <a:t> (ruote + AASM)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375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ruote.rubyforge.org/rdoc/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375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http://jmettraux.wordpress.com</a:t>
            </a:r>
            <a:r>
              <a:rPr b="0" lang="en-US" sz="4100" spc="-1" strike="noStrike">
                <a:solidFill>
                  <a:srgbClr val="ffffff"/>
                </a:solidFill>
                <a:latin typeface="Gill Sans"/>
              </a:rPr>
              <a:t>/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375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ffffff"/>
                </a:solidFill>
                <a:uFillTx/>
                <a:latin typeface="Gill Sans"/>
              </a:rPr>
              <a:t>http://jmettraux.wordpress.com/2009/07/03/state-machine-workflow-engine/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184480" y="4100760"/>
            <a:ext cx="862344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100" spc="-1" strike="noStrike">
                <a:solidFill>
                  <a:srgbClr val="ffffff"/>
                </a:solidFill>
                <a:latin typeface="Gill Sans"/>
                <a:ea typeface="Gill Sans"/>
              </a:rPr>
              <a:t>What is ruote?</a:t>
            </a:r>
            <a:endParaRPr b="0" lang="en-US" sz="10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692440" y="1066680"/>
            <a:ext cx="7620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is workflow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48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workflow consists of a sequence of connected steps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workflow is a model to represent real work for further assessment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term workflow is used in computer programming to capture and develop human-to-machine interaction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things that happen to stuff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-15264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uote is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1612800"/>
            <a:ext cx="1046484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workflow engine written in Ruby (e.g. a persistent manager that knows “who” is participating in a workflow and how they pass work to each other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 “operating system for business processes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no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 state machine libra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rived from OpenWFE (Java), then ported to OpenWFEru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intained by John Mettraux (@jmettraux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49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o wha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1752480"/>
            <a:ext cx="1046484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 have AASM - what more do we need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ASM and ruote are two different, yet complementary approach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ASM attaches behavior to objects (object is primary e.g. “noun-y”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uote manages the processes that involve objects (process is primary e.g. “verb-y”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 state transition logic becomes more complex, a proper workflow engine becomes more helpfu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52200" y="240840"/>
            <a:ext cx="11086920" cy="2832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y do you need ruote?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You have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33271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ll - defined processes that have complex logical transi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need for concurrenc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need to persist state of workflow for a long ti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iverse participants in the workflow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0000"/>
            </a:gs>
            <a:gs pos="100000">
              <a:srgbClr val="39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Gill Sans"/>
              </a:rPr>
              <a:t>ruote basics:</a:t>
            </a:r>
            <a:br>
              <a:rPr sz="5300"/>
            </a:br>
            <a:r>
              <a:rPr b="0" lang="en-US" sz="5300" spc="-1" strike="noStrike">
                <a:solidFill>
                  <a:srgbClr val="ffffff"/>
                </a:solidFill>
                <a:latin typeface="Gill Sans"/>
              </a:rPr>
              <a:t>Components</a:t>
            </a:r>
            <a:endParaRPr b="0" lang="en-US" sz="53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8480" y="1917360"/>
            <a:ext cx="11214360" cy="760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cess Definition: how is process executed (“series of steps”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de up of Process Expressions (“steps”)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5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[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ruote.rubyforge.org/expressions.html]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articipants: Actors in the workflow (people, programs, ?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orkitem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ngine: Provides process instances (RT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